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AC5-1893-41B0-B061-EE1C2F1B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10B-0A3B-4FD8-8109-D8A658E6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781-0E1F-49E3-8E99-BC5FFF02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937-8166-4A84-B4A3-B0BB0DBF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0C0-3082-4B53-81F9-4126D27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C17-976E-41F6-A7F7-E122F482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E3D-D469-40C3-824D-C5C166F0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C78-FFD1-4DC3-8490-79EA42B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D81-7E55-4A7B-952F-A46601C2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72A-756E-49DC-89B1-B8D8DC8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7D1-8A9C-4949-A890-4E4E8B0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4C8-D3B2-49F1-BF0A-1FC35C4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28E6-4C33-4605-8C40-9CD76FE29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«Моя мечта… професс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редняя школа №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МР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ный час в 11 В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чанова Мари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21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6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Уровень притязаний на общественное признан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ируя свой трудовой путь, очень важно позаботиться о реалистичности своих притяз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7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Информированно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о владеть  информацией о професс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6021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8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Склонност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будет успешен в той деятельности, которая ему по ду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6195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Позиция старших членов сем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зиция товарищей, подр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зиция учителей, школьных педаг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Личные профессиональные пл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Способ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Уровень притязаний на общественное при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Информирова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Скл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ичные ошибки при выборе 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нание мира професс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нание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нание правил выбора професс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"Правильный выбор профессии позволяет реализовать свой творческий потенциал, избежать разочарования, оградить себя и свою семью от нищеты и неуверенности в завтрашнем дне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иктор Гю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"Важно не то место, которое мы занимаем, а то направление, в котором мы движемс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Лев Толстой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товые разрабо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«Тот, кто с детства знает, что труд есть закон жизни, кто смолоду понял, что хлеб добывается только в поте лица, тот способен к подвигу, потому что в нужный день и час у него найдётся воля его выполнить и силы для этого» (Жюль Вер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572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3240" y="685800"/>
            <a:ext cx="787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«Кем ты будешь, когда вырастешь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озиция старших членов семьи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жой выбор часто бывает неудачен. Дети иногда идут по стопам родителей, в результате получаются династии врачей, учит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788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2 фактор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озиция товарищей, подруг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м будет решение, которое соответствует твоим интересам и совпадает с интересами общества, в котором ты жив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3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озиция учителей, школьных педагогов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ытный педагог знает много такого о тебе, что скрыто от непрофессиональных глаз и даже от т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643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4 факто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Личные профессиональные план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ПП –это то, чего человек хочет достичь и жизни и в профе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62440" y="1484280"/>
            <a:ext cx="3810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факторов выбора профессии /по Е.А. Климову/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 фактор Способ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го, чтобы какое-либо дело получалось необходимы определённые спосо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11640" y="1600200"/>
            <a:ext cx="4265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8:00:25Z</dcterms:created>
  <dc:creator>Comp</dc:creator>
  <dc:description/>
  <dc:language>en-US</dc:language>
  <cp:lastModifiedBy>Comp</cp:lastModifiedBy>
  <dcterms:modified xsi:type="dcterms:W3CDTF">2011-04-29T17:22:23Z</dcterms:modified>
  <cp:revision>4</cp:revision>
  <dc:subject/>
  <dc:title>Классный час «Моя мечта… профессия»</dc:title>
</cp:coreProperties>
</file>